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39DF-1B34-40C0-A1A5-C7BAA1C72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184E-AF5B-4909-93C2-A98B92B4E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82BC-F9EB-4B52-B5D5-6A16C545A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BA73-C4AA-4150-8184-041D4DBEF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24DE-07A3-486D-B817-1A9D7149A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C241-A612-460F-ACC9-E315253B0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F176-188A-488A-A52A-4F50E8145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9053-3B04-4003-A583-C57D1DFF6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1BD1-DB37-4EE8-B00E-2E3F848B8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E9E3-80B2-4410-9AC4-99B072DB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3212-3789-456C-AF19-0FDE33A9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F553-802F-40A1-B03F-805B5357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454AE-B059-4805-9683-3EB70621D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99"/>
                </a:solidFill>
                <a:latin typeface="Papyrus"/>
              </a:rPr>
              <a:t>La Casa de Mis Sueñ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99"/>
                </a:solidFill>
                <a:latin typeface="Papyrus"/>
              </a:rPr>
              <a:t>Por: Kaylee Kave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Mí Ca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63360" y="-2052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7"/>
          <p:cNvSpPr/>
          <p:nvPr/>
        </p:nvSpPr>
        <p:spPr>
          <a:xfrm>
            <a:off x="63360" y="-2052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9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1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3"/>
          <p:cNvSpPr/>
          <p:nvPr/>
        </p:nvSpPr>
        <p:spPr>
          <a:xfrm>
            <a:off x="2727360" y="5322960"/>
            <a:ext cx="368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í casa localizada en Hawai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í casa es magnifico y increíb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5" descr=""/>
          <p:cNvPicPr/>
          <p:nvPr/>
        </p:nvPicPr>
        <p:blipFill>
          <a:blip r:embed="rId1"/>
          <a:stretch/>
        </p:blipFill>
        <p:spPr>
          <a:xfrm>
            <a:off x="2971800" y="2019240"/>
            <a:ext cx="342900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ndara"/>
              </a:rPr>
              <a:t>El Dormoto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2248920" y="5037120"/>
            <a:ext cx="456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Mí dormotorio es grande. Mí dormoto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tiene una cama, almonad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y un escitorio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pink bedroom"/>
          <p:cNvPicPr/>
          <p:nvPr/>
        </p:nvPicPr>
        <p:blipFill>
          <a:blip r:embed="rId1"/>
          <a:stretch/>
        </p:blipFill>
        <p:spPr>
          <a:xfrm>
            <a:off x="1905120" y="1523880"/>
            <a:ext cx="5276880" cy="31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adley Hand ITC"/>
              </a:rPr>
              <a:t>La Coc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kitchen_design_hardwood_mouldings"/>
          <p:cNvPicPr/>
          <p:nvPr/>
        </p:nvPicPr>
        <p:blipFill>
          <a:blip r:embed="rId1"/>
          <a:stretch/>
        </p:blipFill>
        <p:spPr>
          <a:xfrm>
            <a:off x="2571840" y="1962000"/>
            <a:ext cx="4000320" cy="2934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7"/>
          <p:cNvSpPr/>
          <p:nvPr/>
        </p:nvSpPr>
        <p:spPr>
          <a:xfrm>
            <a:off x="1538280" y="5146560"/>
            <a:ext cx="573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</a:t>
            </a:r>
            <a:r>
              <a:rPr b="0" lang="en-US" sz="18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cina es muy grande. La cocina tiene un horn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 muchos sartens. La casa tiene cubier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pyrus"/>
              </a:rPr>
              <a:t>El Cuatro de Ba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bathroom"/>
          <p:cNvPicPr/>
          <p:nvPr/>
        </p:nvPicPr>
        <p:blipFill>
          <a:blip r:embed="rId1"/>
          <a:stretch/>
        </p:blipFill>
        <p:spPr>
          <a:xfrm>
            <a:off x="2362320" y="15238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8"/>
          <p:cNvSpPr/>
          <p:nvPr/>
        </p:nvSpPr>
        <p:spPr>
          <a:xfrm>
            <a:off x="2031120" y="5257800"/>
            <a:ext cx="515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El baño es incredible. El baño tiene 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armario, una retrete, una banera y una duch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La Sa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2286000" y="1736640"/>
            <a:ext cx="4367160" cy="29098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2053800" y="5257800"/>
            <a:ext cx="487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 sala es muy lujusa. La sala tiene un sof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a mesa y una televis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El Come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2666880" y="2004840"/>
            <a:ext cx="3810240" cy="28483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1468800" y="5641920"/>
            <a:ext cx="609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El comedor es moderno. El comedor ti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una mesa con sillas. El comedor 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magnifico y pequeno. En el comedor, me gusta com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 Pisc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2"/>
          <a:stretch/>
        </p:blipFill>
        <p:spPr>
          <a:xfrm>
            <a:off x="2128680" y="1749600"/>
            <a:ext cx="4797720" cy="35985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"/>
          <p:cNvSpPr/>
          <p:nvPr/>
        </p:nvSpPr>
        <p:spPr>
          <a:xfrm>
            <a:off x="2255040" y="5562720"/>
            <a:ext cx="481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La piscina es pequeña, pero es muy lujos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La piscina tiene palmeras y plant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En mi piscina, me gusta nad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15:19:35Z</dcterms:created>
  <dc:creator>kaveneykay</dc:creator>
  <dc:description/>
  <dc:language>en-US</dc:language>
  <cp:lastModifiedBy>Mama</cp:lastModifiedBy>
  <dcterms:modified xsi:type="dcterms:W3CDTF">2012-05-22T21:24:49Z</dcterms:modified>
  <cp:revision>10</cp:revision>
  <dc:subject/>
  <dc:title>La Casa de Mis Suenos</dc:title>
</cp:coreProperties>
</file>